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A420-13F7-4389-97B8-05444D8B6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6F39-A8AB-44CE-9711-BB535B1F1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531016-A974-43DE-921D-0F26AA378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AD5554-F689-4ABF-9DBD-D7FBD4DB2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43DE70-936D-4D77-A55E-240C5F159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7E4F97-2F90-4617-BAC5-AE7A2EFD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1C0905-56F5-4301-A36C-5DE9E9ED4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EFD671-ED62-4A07-9D69-706293962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EFEAC7-CA28-40C1-8DA9-05660B18B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5EE3D2-A8A1-480B-A44F-EDBD485DF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FD9562-10F1-46BC-B582-83326B334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4F540C-4662-4DFD-B0C4-9273D0776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9A4A-7ADB-4CAE-B307-5AA334FA8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7945E7-8839-4C61-B998-B9EFDE633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9090F1-80AB-49D4-A798-E17DEE375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421930-8BA3-4A98-948B-2A578390C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779B6A-C34D-4F84-A224-F9DBCD80E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15A056-C7FB-4962-A063-13F7FD63A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339FD2-119D-44BE-A655-9FD3A40D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182057-DE15-4E49-8FCB-31CEE660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748E24-2E66-46D7-8664-8C24CBEA4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DBD153-CE4A-467E-9AA1-D0402E13D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E67C3E-7345-4D6E-B097-C31191BFE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EBBB-5245-431B-9B3F-D7EA98CA0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3DBFF6-48CE-4A1E-BA06-F2FDAC258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3B1AD9-5DBA-4C99-B86B-8D3DB1219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C2581A-8C38-4A67-AC5E-E6B5D0A46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3E14B1-49CC-41F4-AD57-6F9E13805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DD1C8B-F2A3-43E2-BCAF-AF3BD8C72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8A3B4C-346C-4CE2-8A55-F0F2B21F1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F8D2EA-5642-41F2-ACD4-E1FC26909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98BA89-E8A3-4065-AC73-4814CD00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4B6A57-2591-45F9-9A38-605E8788F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0C7763-1FD1-4B7F-A273-E63B632C7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9C2AE-2032-41C0-A435-F2722A46D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A840D3-839D-4392-8E2B-275B0527E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55FE83-A219-436A-BEB0-3DC3BD000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77ABF5-4FC7-42F0-AC7E-CFB5BAA52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2FF806-572C-4028-B4FD-52D345799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8387AC-6342-43F1-BD06-0363BB299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99F2E1-C7D3-4E2D-8410-DF49534D7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801F4A-6D0C-4F9D-9FF8-33D228391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30B409-2445-48BB-8FAB-EFFFA42D3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960FC4-77EC-4CC1-86CE-C308A5D63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275493-2163-4360-990B-9F98C5043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1DCC2-37AC-444C-883E-374A8B704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FF5E8A-71D1-49A9-806B-DC771509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2A2A30-5FAF-45F0-B9CB-AE0748D11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24CF61-F780-4294-BC62-3CF9A9603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934518-8C36-490D-8F1C-EE3FA8D2C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9EC72E-B6A9-4669-B79B-25FCA6405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211880-18C8-488E-9389-B6748F522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963825-2DE2-4699-B739-C4B0EC076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DB83FF-74C5-4B59-BB53-87E05C28C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807B1A-F1BE-40E8-AC34-DBD0BB256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1ABB76-7885-4121-AE51-01A590B43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0756F-29BD-4185-990C-CF4399729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459501-D2E3-414D-94B0-8C05DD21D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F4380F-BBF3-4BCC-B21D-C6AEC0988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25CF89-BB7F-4D6C-9616-2F9B4DBE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F0B7D5-483E-4611-BC31-C83C48186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D7D13A-DADE-4FE4-A33B-B3ECA64F9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6D8823-80D5-4FF3-B3BE-682473BFF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BEA904-2785-445F-A5D0-41ACC9D8A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0C2B00-61EA-424F-A9C3-8D0812463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7D045A-6C21-405D-81A2-24ECFE3F0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F74078-54E8-40C2-BB8D-41C53FA1B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E70F0-3290-4BA2-B31A-BA7ED423E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15BA7B-82FC-4FF3-AEA7-0ED98B123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48FAA5-54AC-47CE-AC2B-723CCFBAF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DE2D5D-B0D6-4245-A5BA-97DF801FD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7280A8-2BDE-4236-968E-E89C86F2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4F0ED9-21D7-4D8A-BD7B-C1AECDC9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998587-DAF3-4653-9505-E70E61E6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CFF94D-EF37-492E-9614-6CFB2E73D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3C450F-A450-4B63-BD68-7A500334D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8ABCAC-ECF2-4455-885C-41DFD3D5E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0F4DBF-2B39-4402-BBE2-8476924F2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7C6F3-FDBB-4E1B-A745-32DA6D086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6B1A26-DF0D-4F93-A8F1-33D853473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49A1AA-4C33-4962-ADA8-7BD642889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1CEFE5-E7D5-4F68-8489-A90DF74AE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AA4A28-594C-43A3-989C-071E0C32A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69BA8C-E790-440A-B1E4-32043B7C3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9C1EFD-3488-421D-8FEC-7AB27A1E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13F070-A2CE-4CA2-9693-FEBA35532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CE4696-8051-4C4F-9004-D2C9D51BD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95E446-66C5-41FA-959E-183496895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196687-ED24-44CF-91A1-F1F33D679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A4DD2-14BD-4E16-A7DB-AE63D8F59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38FEDF-AFEF-4175-A848-6A1F4F282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3DBAE2-8D0E-46CD-BB45-000EB0173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891023-5D6A-4BE9-A444-0FD67C879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745B18-D1FD-4FFE-878A-4B265C5A4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AB8D8F-C662-4355-953D-E5D096B47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471DAB-23BA-4A0D-82E8-1F0ED1A0C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816882-1D93-4ECE-96E8-457479B4C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A68594-2874-48F8-8249-660146DC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9E329E-481A-47F4-A756-6AF2882F6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2E38CB-7C52-4155-9FF3-55F9A6508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02F82-19DD-41FD-9A95-1BA6F2ACC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069660-F196-47D7-BCE0-7C5F44567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E88312-4DAA-47F0-9692-5E21754FD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960492-3820-4531-ABF8-BE4FA293A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213D0C-B85C-4210-9DE7-428607785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416749-9D0C-4DFA-9CBF-AA6683945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653D01-861B-48D5-B22B-62456C62E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47BCC3-3790-4E04-BE06-9EEF97B7A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68177A-CE66-46FF-A34F-E5AA1C2D2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B06A6A-7362-4BE8-BC6A-10AA4832A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462ADE-4E4E-4BFD-8F49-BB5AFE11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406E-7427-42D3-B61B-2EA9C7C2E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66214-E70E-4E73-9B69-94B05FA8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DFAFCB-C513-44CC-9AC5-B1239BE33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ABDCE4-6FBF-4FFD-9F68-70D3C24BB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6BD4BA-E157-42E0-B984-5F54FF863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DF79B3-F5A8-4FB6-87B1-6531AFC48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9046B9-51C8-4151-BD26-50AE27CBF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A929C7-E56E-407A-9ED2-473D94876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09976A-BA1F-48E4-8BB4-4DA1F35A4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72AB62-046D-42E6-9308-B654E7A97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3FD0CB-2A78-439D-8104-93C4B452B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49F2A3-927D-4C97-8DDE-8B1E0208C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4FAAA-F7E0-4237-B372-B44A62927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CE4A85-C79E-4866-8B79-A1B590614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A716A8-B504-458D-B3B7-357DAC3E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ACB2CE-8441-4418-8078-493A65A6E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7F6C5E-ECC9-4197-9B9C-561784E3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E0D07A-4132-4D8A-9205-79D51E571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7F4E54-7FB9-46C2-B0CB-344E1B5BC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D8C883-2BA4-48A9-93D8-BD3B54607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4D4F31-9904-4E9E-AF9A-F40D4C377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2585D3-9C3B-42CD-86C7-8B1DF9D92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F77713-42EE-4CFF-8425-81DE1D807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01B49-6483-489E-A3B3-E2874E0DD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730335-8B8E-4908-9F51-EC5551311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1D5E02-4F3F-40B9-A555-163D47F5A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A17AC0-176E-423C-ABC1-F51EC95B4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28C092-D0E3-4FD8-B68D-2201FCB22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F0666C-4442-435E-8F4A-41DAF543E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8E8690-5EF5-4B54-BEBA-8E58EBD8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A1BA6F-F672-48D9-828A-E9F8CCA28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076B3C-6E58-4BCF-81C5-7E145C4A5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94F16A-B705-44D9-AD5C-4ABFA1984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CCE8A7-33A0-4A02-AE2E-0BF9BB0A4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46DFE-A312-41DB-A1F4-888846168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499199-F144-40F3-8CF2-260E9D098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167A9A-B8E9-4738-8CBC-A50F4FCFF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E338BA-3ECF-4890-BAEA-93B5AFADD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AEB57F-388D-4199-B4EC-108002FF7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5152D0-3FAF-40E0-95CE-A45CF1488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309D12-12CA-4029-8674-59EFA29B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858D1B-483E-462F-8B1F-A24B2F1F2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D914FD-F733-4576-9FEB-A27F05FA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C2E404-73DE-4093-B761-F9878B932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149BB5-9110-426B-BD15-597875B70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8AC58-B088-413B-B91A-EE57F2AFF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DACD5D-4C78-40DD-97CC-DB44D13A0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075F55-46D0-46BC-8FA1-B666213DF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84F3E87-8F4D-467F-AA65-1B4182398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D23C2E-B77F-4F6D-A9F8-BFF030610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B0C803-0AC2-4492-9EBD-93D64B007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E50E99-6645-425C-B3D0-7420F5ED3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552FDE-C54E-4D02-8AEA-DE65B62E6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1938B5-FB35-4D0C-A48A-0F9678304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BA5704-3327-4F63-9A49-87E0AA1A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BB176B-75E1-487C-AC74-7ECCFCE7D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2E358-8F00-4CF4-A599-B74782809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44420A-9B19-4145-BCC0-F55E5ED28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13C3E8-F3C0-4CE3-9884-274454972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96ED29-ACC5-4BA5-B97C-C6A77A87A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A79E8-293E-4C17-A47F-978A8B9F7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9836D-03CE-488A-B7B5-3C8252666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513B8-0A15-47D3-A67A-EB83FE049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FBFDE-13F5-4045-B850-8CDB7F134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E027-0A41-4C26-A546-9E334D8BB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9E3E9-174C-4F33-9D74-AAD66F370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5F8CD-48B6-44A9-8D48-F870FF8B0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EA75E-1F6E-47B4-905B-CE98AFAC1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46C0B-7B92-4EE7-ADF5-0280059B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1F6B3-9961-41CA-9699-71DC818B1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CF9C8-66BA-41B9-B898-132E6CFF8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E2BD5-2DCB-4DE8-AFEA-6333DDE8C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FF3F3-CD0B-4B80-BF9F-1D47689D1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5849D-0187-49C5-8708-7FA39CCF0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1D5F7-FE7E-4613-8A42-538C314ED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5419-999F-4CC0-8F06-0F9CC5AE7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9DC47-7A92-46F8-8FAE-D39293F9B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732C0-0D4F-4297-BB25-62F701FC5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40845-A237-4C21-A892-D4FE6C86F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3FE5D-E9C8-4DF1-9AB3-77A3C0AF8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55339-77AB-4597-811A-6D4833B6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0619B-FD75-416A-8B34-2E09C987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38089-A4B7-4C8F-B27F-7671F4534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DF70D-AA4F-47E8-BF67-E1F293B03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836BF-777C-4F59-9A03-134217900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D4A46E-FE0D-48EC-9928-1E323F342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B07C-4371-4A0D-81F8-D200655E1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C6E8D-C623-4089-9FB6-FD9A8BC04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7E38D2-0DF0-424C-AC2D-1706C308E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F91D40-AC40-4E4F-B054-ED78A4CD5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1D32A-8523-48F2-BD8B-746EAF8DC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11F82A-F96C-4C04-B90C-94F3E0209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E952CE-814F-4109-9982-17C5331BF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BD5D8C-97A7-4F18-9B06-5361FF8D0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6BE75-AD6A-40DB-9F08-31E90356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724869-0A5C-4FD8-AD78-A6DC35F77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F3BAC-C98A-4A08-B6D0-F4A982C60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9B78-5718-4FEF-8DB7-7BA662799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B9CCE3-FA90-47EA-AD83-AF53784E2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64D18B-23E3-4F36-9417-88480A588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B61BFB-CA42-4C0B-B734-C2B3F1B9D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A46BD7-0BAD-4026-B7CF-80B57679B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896682-2872-420A-A089-A6B504AA9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209ADC-2C03-48F1-B197-F80D21E13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4B293-1266-4D58-8249-13D2A01C7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AF63F1-3061-4A5A-AD59-16E02FACA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3740C1-5820-4B87-810F-84C8ACEF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427620-A2A6-4F7D-AE73-D4053EA1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769A-1BF9-4995-A1B3-4A0140CE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D40B0D-7891-4BDE-A84A-B38E207B9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559343-6DC2-4C61-A45A-836249FE5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4DEC4E-0D10-4AC9-B65E-70D8DB0CA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F7E474-33A2-45A6-A2BE-2E9D86A07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50458D-7C73-49AB-B6F6-0DB542068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18EA39-94F3-473B-8BFC-B022D9031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67D025-5220-4CFE-8E0D-D12B1538F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B375E2-88F0-45E2-990E-FB71F9F79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536F4D-9FB2-4234-A364-4E7CF34E7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581EFF-6FF1-4395-9F8E-F9356CE9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BBC1-309B-4CC7-B67D-B82A58B5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7245CA-5814-4487-92DA-CEDC7410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479204-40C9-42BA-B67D-040F65E74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79DA81-0B37-4E19-8E65-745DBC788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95AFB1-9673-4D8C-B27F-78311EED3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B6D6BC-048E-4B31-9D5E-4C0BB73E2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60D3BB-35B2-43A0-ABA3-56EC580AD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9CA5E7-E38A-44E8-9380-1F5456690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7EDFE4-0075-42C9-B5C4-ADC4610E1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A534B5-29E7-4413-AE8F-EEA0C0DA5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4A9EED-00CD-4BBE-B4CB-18B6EAC23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A82B-D687-4A6A-97A0-C5324C5F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4D9431-D8B0-46A6-B54A-C46FF7E52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D6F7ED-E191-44D2-90F3-08B957A36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77259A-6D07-4495-B2EF-D581846CB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33F624-4BE0-4A48-9BDC-C6FE0752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C2A91E-5474-4267-ACE6-35AB4319F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4F1AA2-8CE9-4863-AA4F-B2658D30B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736325-FDC6-4CEE-9400-95FBDEB05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C5F2A4-BCEF-4AE6-8CFD-EF8066159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959D83-A0D7-42FA-9EAD-DC6BD939A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857DB6-5F18-43CD-933B-802D7414C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543CB-011E-40CC-B490-18214C485F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04E61-90E9-4A47-8AA3-CA50030AAF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7EB0C-6E86-4737-A5A7-773A640335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BE6DC-C087-49D0-B9C0-978D92F2CD2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0F434-6E7A-4BAC-B1B1-9D9D33ED13C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E50B2-6AAC-4FEE-84BC-1E8AE2245F7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EF483-4541-470D-BA1B-ED8580B950A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EF684-AB62-4FB2-9091-C08C233A48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202F0-BE96-4BFA-8ED9-78A80505A4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6D84A-CCE9-4871-8C83-DA0D76EA192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5377A-1B5C-4981-8B06-0159C8B3B0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116B3-70AD-4631-852F-DF4F3E5221C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27675-195E-4C22-8EF0-E88646DA82E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315F0-C648-42A6-A18D-CBCAE875EAF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E3D5E-0629-4544-8B75-E696DF5F586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0A736-F551-4FE3-A1EE-AC5F4A6544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169FD-D0AD-4642-BC11-58ECBB890C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E6597-C811-4C5B-8744-AF8955FDDC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F79DD-1FC5-4720-98C9-8C9FD8CDC12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A8EA1-19EC-40E7-9910-986E60AE93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5213C-500F-4114-A9D1-A3AEA3905D7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7D734-E4E2-47BD-8E8C-1B1D18C3901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B5237-DF19-45E0-AF22-E65CC273799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CB3CC-97F5-46D4-86E8-3FE7BF15FFC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37526-92FB-4A6B-8DCD-1123B36E864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BB680-7B8E-4380-82F8-DC2D4D7C093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F0705-2C3E-4CBE-AC27-D15E340E03F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774F2-9D37-4E8E-B5BA-73C683CDCB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92D8C-2155-47F2-954C-4C5B80B0F9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B93C2-CA6D-4AB1-86CC-CE2099A226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564FE-5710-4AE8-A12C-68C4551A270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E8CD4-4C41-4033-A4E3-2F3A04A647B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7DA0F-6FBA-4CC7-80B4-B4EE7FF1DB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9E959-3F65-4985-AE92-C02DB9F248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E44B2-F0DA-4873-933A-C7C353BF308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8BEB4-AF1A-44E3-A549-1DAD00DB59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ECEA0-A088-494D-B2CF-B5725B5F7E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0F5FA-9547-4922-AB12-A7EFF9F9235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C00B1-8E2D-4A91-8318-7A794E6D2B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238B0-A1B0-4C89-B2B7-F1A6EDBD8CD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" descr=""/>
          <p:cNvPicPr/>
          <p:nvPr/>
        </p:nvPicPr>
        <p:blipFill>
          <a:blip r:embed="rId1"/>
          <a:stretch/>
        </p:blipFill>
        <p:spPr>
          <a:xfrm>
            <a:off x="2357280" y="3052800"/>
            <a:ext cx="442944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Picture 1" descr=""/>
          <p:cNvPicPr/>
          <p:nvPr/>
        </p:nvPicPr>
        <p:blipFill>
          <a:blip r:embed="rId1"/>
          <a:stretch/>
        </p:blipFill>
        <p:spPr>
          <a:xfrm>
            <a:off x="928800" y="1643040"/>
            <a:ext cx="7934040" cy="3552840"/>
          </a:xfrm>
          <a:prstGeom prst="rect">
            <a:avLst/>
          </a:prstGeom>
          <a:ln w="0">
            <a:noFill/>
          </a:ln>
        </p:spPr>
      </p:pic>
      <p:sp>
        <p:nvSpPr>
          <p:cNvPr id="1052" name="矩形 2"/>
          <p:cNvSpPr/>
          <p:nvPr/>
        </p:nvSpPr>
        <p:spPr>
          <a:xfrm>
            <a:off x="1643040" y="2643120"/>
            <a:ext cx="928800" cy="4032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矩形 3"/>
          <p:cNvSpPr/>
          <p:nvPr/>
        </p:nvSpPr>
        <p:spPr>
          <a:xfrm>
            <a:off x="4214880" y="2643120"/>
            <a:ext cx="785880" cy="4032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矩形 4"/>
          <p:cNvSpPr/>
          <p:nvPr/>
        </p:nvSpPr>
        <p:spPr>
          <a:xfrm>
            <a:off x="1893960" y="3643200"/>
            <a:ext cx="1071360" cy="4032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矩形 5"/>
          <p:cNvSpPr/>
          <p:nvPr/>
        </p:nvSpPr>
        <p:spPr>
          <a:xfrm>
            <a:off x="3429000" y="3643200"/>
            <a:ext cx="928800" cy="4032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矩形 6"/>
          <p:cNvSpPr/>
          <p:nvPr/>
        </p:nvSpPr>
        <p:spPr>
          <a:xfrm>
            <a:off x="1940040" y="4668840"/>
            <a:ext cx="1071360" cy="4032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矩形 7"/>
          <p:cNvSpPr/>
          <p:nvPr/>
        </p:nvSpPr>
        <p:spPr>
          <a:xfrm>
            <a:off x="3451320" y="4678200"/>
            <a:ext cx="1143000" cy="401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Picture 1" descr=""/>
          <p:cNvPicPr/>
          <p:nvPr/>
        </p:nvPicPr>
        <p:blipFill>
          <a:blip r:embed="rId1"/>
          <a:stretch/>
        </p:blipFill>
        <p:spPr>
          <a:xfrm>
            <a:off x="495360" y="1824120"/>
            <a:ext cx="8153280" cy="3209760"/>
          </a:xfrm>
          <a:prstGeom prst="rect">
            <a:avLst/>
          </a:prstGeom>
          <a:ln w="0">
            <a:noFill/>
          </a:ln>
        </p:spPr>
      </p:pic>
      <p:sp>
        <p:nvSpPr>
          <p:cNvPr id="1059" name="矩形 2"/>
          <p:cNvSpPr/>
          <p:nvPr/>
        </p:nvSpPr>
        <p:spPr>
          <a:xfrm>
            <a:off x="1357200" y="2311560"/>
            <a:ext cx="857520" cy="420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矩形 3"/>
          <p:cNvSpPr/>
          <p:nvPr/>
        </p:nvSpPr>
        <p:spPr>
          <a:xfrm>
            <a:off x="2786040" y="2286000"/>
            <a:ext cx="714240" cy="4032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矩形 4"/>
          <p:cNvSpPr/>
          <p:nvPr/>
        </p:nvSpPr>
        <p:spPr>
          <a:xfrm>
            <a:off x="3714840" y="2286000"/>
            <a:ext cx="1357200" cy="4032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矩形 5"/>
          <p:cNvSpPr/>
          <p:nvPr/>
        </p:nvSpPr>
        <p:spPr>
          <a:xfrm>
            <a:off x="1357200" y="3800520"/>
            <a:ext cx="121464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矩形 6"/>
          <p:cNvSpPr/>
          <p:nvPr/>
        </p:nvSpPr>
        <p:spPr>
          <a:xfrm>
            <a:off x="3022560" y="3822840"/>
            <a:ext cx="785880" cy="4032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矩形 7"/>
          <p:cNvSpPr/>
          <p:nvPr/>
        </p:nvSpPr>
        <p:spPr>
          <a:xfrm>
            <a:off x="4357800" y="3786120"/>
            <a:ext cx="642960" cy="4032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1" descr=""/>
          <p:cNvPicPr/>
          <p:nvPr/>
        </p:nvPicPr>
        <p:blipFill>
          <a:blip r:embed="rId1"/>
          <a:stretch/>
        </p:blipFill>
        <p:spPr>
          <a:xfrm>
            <a:off x="428760" y="847800"/>
            <a:ext cx="8210520" cy="601020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2" descr=""/>
          <p:cNvPicPr/>
          <p:nvPr/>
        </p:nvPicPr>
        <p:blipFill>
          <a:blip r:embed="rId2"/>
          <a:stretch/>
        </p:blipFill>
        <p:spPr>
          <a:xfrm>
            <a:off x="2928960" y="428760"/>
            <a:ext cx="3409920" cy="523800"/>
          </a:xfrm>
          <a:prstGeom prst="rect">
            <a:avLst/>
          </a:prstGeom>
          <a:ln w="0">
            <a:noFill/>
          </a:ln>
        </p:spPr>
      </p:pic>
      <p:sp>
        <p:nvSpPr>
          <p:cNvPr id="1025" name="矩形 3"/>
          <p:cNvSpPr/>
          <p:nvPr/>
        </p:nvSpPr>
        <p:spPr>
          <a:xfrm>
            <a:off x="3286080" y="2428920"/>
            <a:ext cx="15001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矩形 4"/>
          <p:cNvSpPr/>
          <p:nvPr/>
        </p:nvSpPr>
        <p:spPr>
          <a:xfrm>
            <a:off x="2928960" y="2928960"/>
            <a:ext cx="17143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5"/>
          <p:cNvSpPr/>
          <p:nvPr/>
        </p:nvSpPr>
        <p:spPr>
          <a:xfrm>
            <a:off x="2286000" y="3929040"/>
            <a:ext cx="121428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矩形 6"/>
          <p:cNvSpPr/>
          <p:nvPr/>
        </p:nvSpPr>
        <p:spPr>
          <a:xfrm>
            <a:off x="2143080" y="4929120"/>
            <a:ext cx="3143160" cy="3970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矩形 7"/>
          <p:cNvSpPr/>
          <p:nvPr/>
        </p:nvSpPr>
        <p:spPr>
          <a:xfrm>
            <a:off x="3821040" y="5964120"/>
            <a:ext cx="150012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0" name="Picture 1" descr=""/>
          <p:cNvPicPr/>
          <p:nvPr/>
        </p:nvPicPr>
        <p:blipFill>
          <a:blip r:embed="rId1"/>
          <a:stretch/>
        </p:blipFill>
        <p:spPr>
          <a:xfrm>
            <a:off x="457200" y="700200"/>
            <a:ext cx="8229600" cy="54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1" name="Picture 1" descr=""/>
          <p:cNvPicPr/>
          <p:nvPr/>
        </p:nvPicPr>
        <p:blipFill>
          <a:blip r:embed="rId1"/>
          <a:stretch/>
        </p:blipFill>
        <p:spPr>
          <a:xfrm>
            <a:off x="428760" y="1623960"/>
            <a:ext cx="828648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Picture 1" descr=""/>
          <p:cNvPicPr/>
          <p:nvPr/>
        </p:nvPicPr>
        <p:blipFill>
          <a:blip r:embed="rId1"/>
          <a:stretch/>
        </p:blipFill>
        <p:spPr>
          <a:xfrm>
            <a:off x="428760" y="714240"/>
            <a:ext cx="8210520" cy="6143760"/>
          </a:xfrm>
          <a:prstGeom prst="rect">
            <a:avLst/>
          </a:prstGeom>
          <a:ln w="0">
            <a:noFill/>
          </a:ln>
        </p:spPr>
      </p:pic>
      <p:sp>
        <p:nvSpPr>
          <p:cNvPr id="1033" name="矩形 2"/>
          <p:cNvSpPr/>
          <p:nvPr/>
        </p:nvSpPr>
        <p:spPr>
          <a:xfrm>
            <a:off x="928800" y="214308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矩形 3"/>
          <p:cNvSpPr/>
          <p:nvPr/>
        </p:nvSpPr>
        <p:spPr>
          <a:xfrm>
            <a:off x="928800" y="450072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5" name="Picture 1" descr=""/>
          <p:cNvPicPr/>
          <p:nvPr/>
        </p:nvPicPr>
        <p:blipFill>
          <a:blip r:embed="rId1"/>
          <a:stretch/>
        </p:blipFill>
        <p:spPr>
          <a:xfrm>
            <a:off x="404640" y="1119240"/>
            <a:ext cx="8334720" cy="4619520"/>
          </a:xfrm>
          <a:prstGeom prst="rect">
            <a:avLst/>
          </a:prstGeom>
          <a:ln w="0">
            <a:noFill/>
          </a:ln>
        </p:spPr>
      </p:pic>
      <p:sp>
        <p:nvSpPr>
          <p:cNvPr id="1036" name="矩形 2"/>
          <p:cNvSpPr/>
          <p:nvPr/>
        </p:nvSpPr>
        <p:spPr>
          <a:xfrm>
            <a:off x="928800" y="128592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矩形 3"/>
          <p:cNvSpPr/>
          <p:nvPr/>
        </p:nvSpPr>
        <p:spPr>
          <a:xfrm>
            <a:off x="857160" y="378612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Picture 1" descr=""/>
          <p:cNvPicPr/>
          <p:nvPr/>
        </p:nvPicPr>
        <p:blipFill>
          <a:blip r:embed="rId1"/>
          <a:stretch/>
        </p:blipFill>
        <p:spPr>
          <a:xfrm>
            <a:off x="504720" y="1628640"/>
            <a:ext cx="8134560" cy="3600720"/>
          </a:xfrm>
          <a:prstGeom prst="rect">
            <a:avLst/>
          </a:prstGeom>
          <a:ln w="0">
            <a:noFill/>
          </a:ln>
        </p:spPr>
      </p:pic>
      <p:sp>
        <p:nvSpPr>
          <p:cNvPr id="1039" name="矩形 2"/>
          <p:cNvSpPr/>
          <p:nvPr/>
        </p:nvSpPr>
        <p:spPr>
          <a:xfrm>
            <a:off x="928800" y="178596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矩形 3"/>
          <p:cNvSpPr/>
          <p:nvPr/>
        </p:nvSpPr>
        <p:spPr>
          <a:xfrm>
            <a:off x="785880" y="371484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1" name="Picture 1" descr=""/>
          <p:cNvPicPr/>
          <p:nvPr/>
        </p:nvPicPr>
        <p:blipFill>
          <a:blip r:embed="rId1"/>
          <a:stretch/>
        </p:blipFill>
        <p:spPr>
          <a:xfrm>
            <a:off x="528480" y="1424160"/>
            <a:ext cx="8087040" cy="4009680"/>
          </a:xfrm>
          <a:prstGeom prst="rect">
            <a:avLst/>
          </a:prstGeom>
          <a:ln w="0">
            <a:noFill/>
          </a:ln>
        </p:spPr>
      </p:pic>
      <p:sp>
        <p:nvSpPr>
          <p:cNvPr id="1042" name="矩形 2"/>
          <p:cNvSpPr/>
          <p:nvPr/>
        </p:nvSpPr>
        <p:spPr>
          <a:xfrm>
            <a:off x="2928960" y="1928880"/>
            <a:ext cx="1214280" cy="4032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矩形 4"/>
          <p:cNvSpPr/>
          <p:nvPr/>
        </p:nvSpPr>
        <p:spPr>
          <a:xfrm>
            <a:off x="5178600" y="2403360"/>
            <a:ext cx="1322280" cy="4032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5"/>
          <p:cNvSpPr/>
          <p:nvPr/>
        </p:nvSpPr>
        <p:spPr>
          <a:xfrm>
            <a:off x="3160800" y="3421080"/>
            <a:ext cx="1214280" cy="401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矩形 6"/>
          <p:cNvSpPr/>
          <p:nvPr/>
        </p:nvSpPr>
        <p:spPr>
          <a:xfrm>
            <a:off x="2928960" y="3929040"/>
            <a:ext cx="1643040" cy="4032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矩形 7"/>
          <p:cNvSpPr/>
          <p:nvPr/>
        </p:nvSpPr>
        <p:spPr>
          <a:xfrm>
            <a:off x="2428920" y="4929120"/>
            <a:ext cx="1214280" cy="4032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Picture 1" descr=""/>
          <p:cNvPicPr/>
          <p:nvPr/>
        </p:nvPicPr>
        <p:blipFill>
          <a:blip r:embed="rId1"/>
          <a:stretch/>
        </p:blipFill>
        <p:spPr>
          <a:xfrm>
            <a:off x="523800" y="1952640"/>
            <a:ext cx="8096400" cy="2952720"/>
          </a:xfrm>
          <a:prstGeom prst="rect">
            <a:avLst/>
          </a:prstGeom>
          <a:ln w="0">
            <a:noFill/>
          </a:ln>
        </p:spPr>
      </p:pic>
      <p:sp>
        <p:nvSpPr>
          <p:cNvPr id="1048" name="矩形 2"/>
          <p:cNvSpPr/>
          <p:nvPr/>
        </p:nvSpPr>
        <p:spPr>
          <a:xfrm>
            <a:off x="3571920" y="1928880"/>
            <a:ext cx="1643040" cy="4032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矩形 3"/>
          <p:cNvSpPr/>
          <p:nvPr/>
        </p:nvSpPr>
        <p:spPr>
          <a:xfrm>
            <a:off x="3929040" y="2928960"/>
            <a:ext cx="1785960" cy="4032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矩形 4"/>
          <p:cNvSpPr/>
          <p:nvPr/>
        </p:nvSpPr>
        <p:spPr>
          <a:xfrm>
            <a:off x="4286160" y="3929040"/>
            <a:ext cx="1571760" cy="4255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/>
  <dc:description/>
  <dc:language>en-US</dc:language>
  <cp:lastModifiedBy>加冕成王</cp:lastModifiedBy>
  <dcterms:modified xsi:type="dcterms:W3CDTF">2020-07-17T09:10:58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